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CHIMES.WAV" ContentType="audio/x-wav"/>
  <Override PartName="/ppt/media/image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8A5-2B22-499F-84F7-6376FDB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98C-7128-43BB-99D8-080A07D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C7C-5683-4755-A7F2-06EA173D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68F-081E-4017-B2F8-8D574C64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2DE-94E9-466A-A2A9-682326A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A5E-E1C9-4854-AEBC-D7557BB0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EE0-1897-4C3E-930A-C0E3F8F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23F-B56E-4734-8A74-110F7A00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980-4BC6-43B8-B94C-268A3D1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629-1FA2-4F5C-BA81-F4891D2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13A-F685-4D1B-9C35-F0D8451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51E-647F-4AF8-BF97-D3A6AE2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97A-7E86-47E2-A143-B00D3A8F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4167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business geared for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ing for cultural rene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cultural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6756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rategy implement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organis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86000"/>
            <a:ext cx="562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idelines for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s peopl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eople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 sense of belo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unwritte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the strategy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400800" y="2610000"/>
            <a:ext cx="27432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3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3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3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ompany culture agr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057400"/>
            <a:ext cx="44193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r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743200"/>
            <a:ext cx="257184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ture Valu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648320"/>
            <a:ext cx="38098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589720"/>
            <a:ext cx="2808360" cy="887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Valu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971080" y="3733560"/>
            <a:ext cx="289584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ategy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148360" y="414972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y of doing busines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2565360"/>
            <a:ext cx="28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keholder feedbac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ransforms a company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74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Leadership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History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and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and Rewar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, value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leaders play in transforming org.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78400" y="2292480"/>
            <a:ext cx="3308400" cy="3139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4095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Pat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perceived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571500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rrent Cultu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53080" y="19051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ture Cultu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0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agreeing an Organisation’s culture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2748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734080"/>
            <a:ext cx="648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EXISTING AND PREFERRED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5013360"/>
            <a:ext cx="5688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ING A PREFERRED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4149720"/>
            <a:ext cx="518508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NG CORE VALUE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PREFERRED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0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284640"/>
            <a:ext cx="4608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ING ON THE BEHAVIOUR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STITUTES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421000"/>
            <a:ext cx="3816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CHING/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628640"/>
            <a:ext cx="309564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59636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596360" y="45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04360" y="1700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96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8360" y="184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404640"/>
            <a:ext cx="3673440" cy="1922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120" y="2847960"/>
            <a:ext cx="141228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852640"/>
            <a:ext cx="158436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5400" y="2852640"/>
            <a:ext cx="154296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LUGGING       SKILL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45160"/>
            <a:ext cx="1800360" cy="131364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OAL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797360"/>
            <a:ext cx="2519640" cy="100872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R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4869000"/>
            <a:ext cx="2449440" cy="100872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02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773360"/>
            <a:ext cx="129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5244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z and Hamel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.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optimi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284640"/>
            <a:ext cx="1944720" cy="15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3635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284640"/>
            <a:ext cx="2519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68460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737080" cy="82548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ing as a tool to align people’s thinking regarding culture/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 adults manage change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ongo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cit core values and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nsor futur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collaboration and consensus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from what is possible, using imagination, vision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ide clients toward high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e professional and organizat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e, seek results, explore new directions, inno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 networking through linkages with common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Frederik M.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20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s a tool to reinforce culture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s the vehicle through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ehaviours can be taught, so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the needed behaviours (ways of doing business) can permeate throughout the company fast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preferred cultures could be created soo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business results is always the key outco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3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5960" y="2130120"/>
            <a:ext cx="744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YOUR BUSINESS GEARED FOR SUCCE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356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oriente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78400" y="2292480"/>
            <a:ext cx="3308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TRENDS AND BEST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S IN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581280"/>
            <a:ext cx="6821280" cy="2895840"/>
          </a:xfrm>
          <a:prstGeom prst="flowChartExtra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PPLYING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PROJECT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TO MANAGING TH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F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trends in Project Mg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915920"/>
            <a:ext cx="70977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signing a Project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signing a Projec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veloping Project Management Compe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ing Projects as Vehicles for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trends in Project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tablishing PM-techniques and controls throughout the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suring that Projects support your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icking off in the right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-validating the viability of the project throughout it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osing and handing-over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ebrating successful project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Project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ng particular resourc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project work to be carried out satisfacto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the project milestones and objectives success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riorities are set and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ll functions/activities into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cost items are linked to a specific project-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0040" y="519120"/>
            <a:ext cx="88138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000" y="685800"/>
            <a:ext cx="85183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608040"/>
            <a:ext cx="88153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6360" y="830160"/>
            <a:ext cx="8501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20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business align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customer’s need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market demand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lignment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business area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should do business and how you are doing business n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you aligned with your 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8200" y="263520"/>
            <a:ext cx="84711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040" y="133200"/>
            <a:ext cx="87156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5040360"/>
          </a:xfrm>
          <a:prstGeom prst="rect">
            <a:avLst/>
          </a:prstGeom>
          <a:solidFill>
            <a:srgbClr val="f1f55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s of alignment, strategy, culture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a working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business strategy decided and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forces behin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to 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techniques used worldwide, right now, to achiev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in Scandinavia – culture and values -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7848720" cy="6248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905120"/>
            <a:ext cx="5105520" cy="35812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066680"/>
            <a:ext cx="141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 (d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200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rp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5486400"/>
            <a:ext cx="24382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uide behavi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089160"/>
            <a:ext cx="380880" cy="22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971800"/>
            <a:ext cx="457200" cy="22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2857320" y="438156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imat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4686120" y="4228920"/>
            <a:ext cx="19810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imat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48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reate a working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e balance between the powers of intellect and the power of human will in organisations, with the powers of intuition and c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should have one hand on strategy (what business we do) and one hand on the culture and values (how we do busi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business strategy deci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057400"/>
            <a:ext cx="44193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743200"/>
            <a:ext cx="175284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648320"/>
            <a:ext cx="38098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562720"/>
            <a:ext cx="19047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429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akeholder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86400" y="411480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alu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2971080" y="3733560"/>
            <a:ext cx="289584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ategy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Forces behind an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 offered: Primary versus Second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Needs: Potential custom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: Ensuring quality, creativity, solutions th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Capability: Primary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3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Forces behind an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S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, structures, rewar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ies/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and futur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and Return on Inves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mar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3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3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9:01:56Z</dcterms:created>
  <dc:creator>Salome</dc:creator>
  <dc:description/>
  <dc:language>en-US</dc:language>
  <cp:lastModifiedBy>Salome</cp:lastModifiedBy>
  <dcterms:modified xsi:type="dcterms:W3CDTF">2007-07-12T11:15:57Z</dcterms:modified>
  <cp:revision>35</cp:revision>
  <dc:subject/>
  <dc:title>Do you have the right Culture to make your Vision come true?</dc:title>
</cp:coreProperties>
</file>