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BCE-FA11-4728-AF00-15B80EC8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1E9-D446-40D3-A021-10598C1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3FF-6247-43FE-B7B9-4AEC924B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B52-E9BE-4487-B5F0-52804304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CE3-6E13-4B91-9B92-7CE64D4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2C2-99DE-4B73-93A5-8777069A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E1A-62F3-464A-A0A1-06420F46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224-061A-4DF8-8978-E0BB6A9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5D8-9746-42F5-9FC1-69468331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7BA-F648-4B07-8110-D50A140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52A-D143-4724-B2BC-B57103A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109-CAA5-4D90-9966-FED8465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2F1-546F-45DE-BA30-BE92C3EB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BSC Client-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nd Growt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business proces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95280"/>
            <a:ext cx="8675640" cy="49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ensure an uncomplicated business-experience with the aim to provide a mutually beneficial business result/outcome for all involved, we need to achi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independence of every busines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increased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rnover of …………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ofit margin of  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inancial capacity to handle orders of up to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monitor more closely, the performance of our business part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margin slippage on project to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crease our invoicable consulting hours to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295280"/>
            <a:ext cx="8532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rning an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offer technical services/total engineering solutions to manufacturing industries, we ne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our Project-handling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our capacity to offer to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our ability to be flexible and un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ine project-repor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efine and apply our competitive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628640"/>
            <a:ext cx="80643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be open to networking and partnering with our international counterparts, with a view to strengthen and develop long term viable, customer-relationship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ing our reputation for quality and on-ti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aining a strong supplier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even better relations with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ing our marketing presence and compan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ing our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adening our market-base (dif. Seg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628640"/>
            <a:ext cx="800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al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rder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inually develop our existing exceptional competence in both engineering and project-delivery we hav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best-practice way of planning, monitoring and evaluating the projec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ost-effective purchasing rout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strategic management process which includes every staff member within Epsilon 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tinuously work smarter, faster and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8:57:36Z</dcterms:created>
  <dc:creator>Salome</dc:creator>
  <dc:description/>
  <dc:language>en-US</dc:language>
  <cp:lastModifiedBy>Salome</cp:lastModifiedBy>
  <dcterms:modified xsi:type="dcterms:W3CDTF">2007-09-13T09:15:16Z</dcterms:modified>
  <cp:revision>6</cp:revision>
  <dc:subject/>
  <dc:title>Tentative Strategic BSC for Epsilon IK</dc:title>
</cp:coreProperties>
</file>