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5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5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6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7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7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7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7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7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52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52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5284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3672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8526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526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B24AA-B3BD-4BBC-BADA-5B0630A7C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8F650-1003-44AE-AD4B-D87993B74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901F-4721-40C4-A869-42627E060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2BDB1-AAD1-4A90-AB1F-53339F84B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4D69-0113-4D87-850A-A0AE120A8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D26AA-D1BF-49AA-9550-33A8349CE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1143000" y="685800"/>
            <a:ext cx="44672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5C624-0E62-48A4-9800-EE4C98646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BDBF-051F-4FEB-9BF3-EA8E955EB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ADA02-088B-493C-A8EE-2E47B582A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BF0C9-B92A-4CB2-96FE-1807A7AF07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FCF2D-6BBB-4D73-B2E0-307F0B0F7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C4E5F-B247-4B5A-8F9E-298528FAD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841D0-8C97-4AD1-A871-B5F40218F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539280" y="4346640"/>
            <a:ext cx="538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Outline of this talk is as follo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6EE66-9485-4E46-B706-5C7C7BCC4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43000" y="685800"/>
            <a:ext cx="4459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A62EE-EA8E-4DE1-B341-8C733BBD2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43000" y="685800"/>
            <a:ext cx="4456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7B3D9-45CA-42EE-95BD-E20DEF296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0BE29-F378-4CD0-BCA5-224FDF135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4044F-EA73-4D41-A370-22E8EAFC9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0007-B1F4-48E6-B62E-970300B38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845DD-0BEC-4614-8B46-BD579B7B5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296DE-F988-40F3-BF9C-A0E9C9786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1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B0EDC-DBF7-41E3-96CB-4121B8639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6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7E9-AF84-4D5E-A253-01A812CE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C20-0134-4343-A57D-5813B08F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264-DE87-4E54-BB43-05ABE4A2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932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80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932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80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433-82D8-48BB-B081-DA4A2BE9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497-9C7E-4ECC-9F66-E4B0DBF7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6D5C-3928-46F4-9F04-59FD7DF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9C88-BB0C-4678-8551-AA79B21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B88B-960B-4C0B-9A8F-CAFA234B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0604-43AC-48F3-919F-49ADD26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104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9D9B-BD94-4524-8353-60E34639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2A83-7EC2-4AC8-936C-590ED8D8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6A2-B2A2-4112-A209-9840C023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C7F-EB90-4DFD-AEAC-C76017D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9E02-1B18-4B1E-B3B9-14B77B6D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3B4-EC58-4D94-B372-4DBACD7B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A5C3-C24F-4E4B-AE22-CD041831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932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800" y="15998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932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800" y="3965040"/>
            <a:ext cx="2611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F532-CC4E-4D02-B101-0DAE8882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EA4-278D-4C52-8C4E-6ACF6B8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C15-D752-45D2-A246-B84E4ED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470-2F57-4132-971C-FECDE5B9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10440" cy="50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83E6-C354-4B9F-8FB5-F691F95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C50-DBCE-4EA5-824F-F5918825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040" y="39650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CC7-B25E-4B1E-9AEB-25AA783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040" y="1599840"/>
            <a:ext cx="39578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104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5BA-690E-4B70-87F9-AFE0D7E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1044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104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20760" indent="-271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7766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88FDAA-8090-4293-A490-AC8AD3557DA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04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776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66388A-67B3-412F-94FB-0A52B853969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39354-162A-4719-A45D-BD83D5F2684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11280" y="2133720"/>
            <a:ext cx="822960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FAA7-A811-4EB1-9CF4-962F672A7C3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Cao</a:t>
            </a:r>
            <a:r>
              <a:rPr b="1" i="1" lang="en-GB" sz="3600" spc="-1" strike="noStrike">
                <a:solidFill>
                  <a:srgbClr val="006633"/>
                </a:solidFill>
                <a:latin typeface="Arial"/>
              </a:rPr>
              <a:t>’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 work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000" y="1223640"/>
            <a:ext cx="83502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s as well as LRU or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access patterns indivi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2276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Recently Abandoned (MRA) for looping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oretical Caching and Pref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xed prefet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8E12D-9B6D-4C9F-B0C0-8FE72277BD9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75680"/>
            <a:ext cx="892800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ection Based Adaptive Replacement (DEAR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 [jongmoo Choi, 1999]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mpts to automatically detect block reference patterns while processes are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0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as a glob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D541B-E5F2-4BE2-AA2A-D51C2EF5915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9280" y="216000"/>
            <a:ext cx="869472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blem in using LRU as global Algorith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40000" y="1440000"/>
            <a:ext cx="4679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3961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3AA3A-9165-4F44-91F5-D91444BC58E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1234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placing Global LRU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539640" y="1440000"/>
            <a:ext cx="738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2840" y="1707840"/>
            <a:ext cx="812304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9000"/>
              </a:lnSpc>
              <a:spcBef>
                <a:spcPts val="737"/>
              </a:spcBef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sider different file access patterns when doing global re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89000"/>
              </a:lnSpc>
              <a:spcBef>
                <a:spcPts val="737"/>
              </a:spcBef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to balance the allocation of blocks between different file access pattern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2300-1C0A-49CB-A513-68B4A8BBD27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0000" y="129528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14280">
              <a:lnSpc>
                <a:spcPct val="85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for global replacement and dynamic prefe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59539-79D1-4792-8BE6-5FB3DB7C983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 (proposed work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979640" y="1582560"/>
            <a:ext cx="5219640" cy="38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FBB0-2792-41EE-95B5-0165B5A1C41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322200"/>
            <a:ext cx="81597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ble Cond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720720" y="1208160"/>
            <a:ext cx="3984480" cy="4552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500720" y="900000"/>
            <a:ext cx="43192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96EFC-A055-420D-8032-4BF0FDDCB20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960" y="252000"/>
            <a:ext cx="799632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imulation and Developmen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8720" y="1042560"/>
            <a:ext cx="845964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al File System (EF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wn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y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ulation using EFS traffic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98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2837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can get to stabl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imulation result in the 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ar-SA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75B79-8F52-484D-B175-38AE8D418B9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0840" y="360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erson, T.; Serverless network file systems,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hemawat, S.; The Google file system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meldeen, A. R. User-Controlled File Caching in Linux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g Jiang; Dulo: an effective buffer cache management scheme to exploit both temporal and spatial locality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o-Hsien Lee; Hipec: High performance external virtual memory caching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4000"/>
              </a:lnSpc>
              <a:spcBef>
                <a:spcPts val="737"/>
              </a:spcBef>
              <a:spcAft>
                <a:spcPts val="850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DEHFY+CMR10"/>
              </a:rPr>
              <a:t>Jongmoo Choi; An implement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y of a detection-based adaptive block replacement scheme,19</a:t>
            </a:r>
            <a:r>
              <a:rPr b="0" lang="en-GB" sz="2400" spc="-1" strike="noStrike">
                <a:solidFill>
                  <a:srgbClr val="000000"/>
                </a:solidFill>
                <a:latin typeface="KZJUQF+CMTI10"/>
              </a:rPr>
              <a:t>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9C4D4-A5DB-42CA-B077-B586B08FC98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B6BB-A812-4C83-A878-3C09643FF58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3760" y="277560"/>
            <a:ext cx="8223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: Network Memory Server(NM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State Of The Art in Caching and its ineleg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 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2EA3-AC52-4EB4-A180-8A86CCA6BDC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24000"/>
            <a:ext cx="8116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irectory Structure of an EF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33280" y="1079640"/>
            <a:ext cx="804708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F5939-FB84-47DF-82B0-2F4F99CA2BB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1800"/>
            <a:ext cx="81136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A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792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924EC-7423-4BE0-8FA5-77D349D3D30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mobil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63285-61EE-4B99-A7CC-E5B998AB4BF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97920"/>
            <a:ext cx="818208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1280" y="1440000"/>
            <a:ext cx="818208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software not fast enou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gregates reads and w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11160">
              <a:lnSpc>
                <a:spcPct val="85000"/>
              </a:lnSpc>
              <a:spcAft>
                <a:spcPts val="5675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 [Gemikonakli et al, 2006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C33FE-6DE3-4536-89F5-B3E85C11190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376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564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D80CF-FAFA-4DA2-8A87-7DBED3F4C2B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280" y="216000"/>
            <a:ext cx="822492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6920" y="1260360"/>
            <a:ext cx="82249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st Recently Used (LRU) algorithm balances the memory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is unsuit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42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nd looping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ing access patterns for memory allocation can do better than L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DEC48-5F20-4C6A-A68F-29B81B3241D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463680" y="71280"/>
            <a:ext cx="81421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24000" y="1185840"/>
            <a:ext cx="82803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2276"/>
              </a:spcAft>
              <a:buClr>
                <a:srgbClr val="3b812f"/>
              </a:buClr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rverless file system (xFS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[Anderson et al., 199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nefiting from cooperative 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0800" indent="-322200">
              <a:lnSpc>
                <a:spcPct val="79000"/>
              </a:lnSpc>
              <a:spcAft>
                <a:spcPts val="2276"/>
              </a:spcAft>
              <a:buClr>
                <a:srgbClr val="3b812f"/>
              </a:buClr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ogle File System (GFS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[Ghemawat et al., 200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79000"/>
              </a:lnSpc>
              <a:spcAft>
                <a:spcPts val="4249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t caching sequential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67AD-5006-401D-A476-00E544E1C22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0000" y="1064880"/>
            <a:ext cx="845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ach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LO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Dual Locality)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ng Jiang, 2005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s preference to isolated disks blocks to stay longer in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-file page replacement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32220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PEC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High Performance External Virtual Memory Caching)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‏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o-Hsien Lee, 1994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FAFR (First Allocated, First Reclaimed) algorithm as a globa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68360" y="181080"/>
            <a:ext cx="813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(previous research on caching)</a:t>
            </a:r>
            <a:r>
              <a:rPr b="0" lang="ar-SA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3480"/>
            <a:ext cx="2014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34C8A-FAA5-4158-856C-A91253602E4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Pei Cao's, 1994]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7740720" cy="4500360"/>
          </a:xfrm>
          <a:prstGeom prst="rect">
            <a:avLst/>
          </a:prstGeom>
          <a:ln w="0">
            <a:noFill/>
          </a:ln>
        </p:spPr>
      </p:pic>
      <p:sp>
        <p:nvSpPr>
          <p:cNvPr id="199" name="Line 3"/>
          <p:cNvSpPr/>
          <p:nvPr/>
        </p:nvSpPr>
        <p:spPr>
          <a:xfrm>
            <a:off x="2843280" y="3348000"/>
            <a:ext cx="828720" cy="93672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 flipV="1">
            <a:off x="4932360" y="3193560"/>
            <a:ext cx="1008000" cy="102708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5318280" y="3276720"/>
            <a:ext cx="1171440" cy="140328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 flipV="1">
            <a:off x="1753920" y="3301560"/>
            <a:ext cx="1243080" cy="1171800"/>
          </a:xfrm>
          <a:prstGeom prst="line">
            <a:avLst/>
          </a:prstGeom>
          <a:ln w="720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3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dcterms:modified xsi:type="dcterms:W3CDTF">2008-02-01T11:35:03Z</dcterms:modified>
  <cp:revision>1</cp:revision>
  <dc:subject/>
  <dc:title>Slide 1</dc:title>
</cp:coreProperties>
</file>