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49100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05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890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890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05B0C-63DB-40C4-A9E4-A996F582B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59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7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015-E774-452D-9C2F-6B4E7BFD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136-9AEC-4A29-A4AC-A641D201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D1F-B724-4245-ADAF-5BE17F40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92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736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92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736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073-102D-44B3-9DAB-0FC0FFAE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8D6E-0512-43BC-9AF6-6972E8DC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923-870B-49F2-A37D-F5526CBB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44CC-F7E3-46A4-A817-CAB576FF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7E71-3358-4879-88AC-43B38667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4F01-303B-4483-A068-12258002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48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6035-8B16-4D95-AFD6-2CEB1A1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8466-D112-41BB-A536-D9E7D53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5EE-1D21-469B-A483-ECE0F9DC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C79E-34AE-4363-891E-790701D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0A8F-3497-4352-9627-157FEF5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269A-82A9-402D-85DB-BF86702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33CE-C13A-4977-8EBD-616AEB88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192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15998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192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965040"/>
            <a:ext cx="262368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912A-8DAD-4B35-A843-73DD3641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6BD-E4EE-42B3-BF9A-D72D9993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33D-3E98-4EA1-9B9C-A9D9A38F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581-96CB-4C5E-BFF7-02E53623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148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BC5-2C7F-4054-97DB-A32887AC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C43-E22B-44EF-AC0D-132A14F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120" y="39650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D73-58CD-4F54-91FC-E6CAF38C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120" y="1599840"/>
            <a:ext cx="39762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14860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EDA-71D8-4C4F-BDE0-EADC386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86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148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29052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14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0F0B7-5025-44BA-BDF3-D11A7147E48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54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2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30/08/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14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052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AD5F6A-E6B2-4826-AFB3-7831FB2AA16F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mproving file system performance using access patterns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13372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or of Studies: Dr. Glenford M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ervisor: Prof. Richard Bor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127-6C4A-4198-828E-C4702814D7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4520" y="324000"/>
            <a:ext cx="8169480" cy="66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3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Contd ...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(Detail study of Cao</a:t>
            </a:r>
            <a:r>
              <a:rPr b="0" lang="en-GB" sz="2400" spc="-1" strike="noStrike">
                <a:solidFill>
                  <a:srgbClr val="006633"/>
                </a:solidFill>
                <a:latin typeface="QWWQKH+CMR10"/>
                <a:ea typeface="QWWQKH+CMR10"/>
              </a:rPr>
              <a:t>’s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0160" y="971640"/>
            <a:ext cx="8350200" cy="57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wapping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unfairly penalising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lace holder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o avoid application acquiring more blocks than global LR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Guarantees it performs as well as LRU or bet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Looked at access patterns individu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Replace the block whose next reference is farthest a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st Recently Abandoned (MRA) for looping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oretical Study of Caching and Prefetching in integrated fash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nly static prefetching was implemen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231-A3E8-402B-89A1-490126DB3A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9280" y="286920"/>
            <a:ext cx="869472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Problem in application-controlled caching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40000" y="1079280"/>
            <a:ext cx="467964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global LRU can result in the wrong file being selected for re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RU does not find the best allocation between the processes having different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rect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sequential file block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n the working-set file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1120" y="2227320"/>
            <a:ext cx="399924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715-A74C-49F1-9697-45A76C14576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5560"/>
            <a:ext cx="81882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Proposed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Wo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079280"/>
            <a:ext cx="8188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caching mechanism which uses file access patterns for global replacement and dynamic pref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patterns that we will 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 patterns:- Only prefetch block will be c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ping access patterns:- Most Recently Abandoned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-set access patterns:- LRU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will be used for Sequential and Looping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B55-660E-44DE-95A4-E4F75691F0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3680" y="212400"/>
            <a:ext cx="8177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ach access pattern will be represented by a manager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r work will develop a strategy to maintain fair allocation of blocks dynamically between access patterns and prefetching which will guarantee a stable cond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9080" y="6264360"/>
            <a:ext cx="4030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4200" y="2160720"/>
            <a:ext cx="3836880" cy="34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58B-EFAE-4E92-8D07-57FB29D56C6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6480" y="313920"/>
            <a:ext cx="815976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table Cond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4429080" y="6264360"/>
            <a:ext cx="3959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280360" cy="48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878-F9A1-4216-8503-D18FFE3AB3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3680" y="107640"/>
            <a:ext cx="81770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4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imulation and Develop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8720" y="934560"/>
            <a:ext cx="84596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UNIX buffer cache i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propose to develop a test bed called Experimental File System (EF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s its own c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use directory structure to specify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ill also develop a simulation to investigate the caching mechanisms using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560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idea is to simulate the environment and to look 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sing cache mi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lose we can get to the stabl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29080" y="6264360"/>
            <a:ext cx="3994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contd... (proposed work)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044-3694-4A2E-8858-03804122C6C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20840" y="252360"/>
            <a:ext cx="820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Kubiatowicz, J.; Bindel, D.; Chen, Y.; Eaton, S. C. P.; Geels, D.; OceanStore: an architecture for global-scale persistent storage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erson, T.; Dahlin, M.; Neefe, J.; Pat-terson, D.; Roselli, D. &amp; Wang, R. Serverless network file system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hemawat, S.; Gobioff, H. &amp; Leung, S. The Google file system, 200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i, V. S.; Druschel, P. &amp; Zwaenepoel, W. IO-Lite: a unified I/O buffering and caching system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; Karlin, A. R. &amp; Li, K. A study of integrated prefetching and caching strategies, 199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ameldeen, A. R. &amp; Schneider, D. A. User-Controlled File Caching in Linux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o, P.; Felten, E. W. &amp; Li, K. Application-Controlled File Caching Policies, 199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904-DE89-4C52-BA68-AF6A6C890B4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927520"/>
            <a:ext cx="8964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116000" cy="223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F11-C1E8-47A2-82F4-A5266BF1CA9F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3760" y="169920"/>
            <a:ext cx="822348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tline of this tal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7600" y="1079280"/>
            <a:ext cx="822312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ivation for the work: Network Memory Server(NM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do we need cac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e Of The Art in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ious work done and thei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ed study of Pei Cao'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ed Solution: To improve cache performance by looking at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a simulation and a test bed to explore caching mechanisms using file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4AC-673E-4BE7-89F9-08D25BEB59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5920" y="204480"/>
            <a:ext cx="82296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0040" y="1260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age for heterogeneous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Cach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Memory Applications (LM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ging de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e.g Gigabi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757-60F2-41CA-BCF4-12BCABD61D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-46080"/>
            <a:ext cx="81820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Why do we need caching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060560"/>
            <a:ext cx="8182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/O operations are not fast enough when compared to processing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network software is not fast enough for network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ching could be used to improve the respons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lso aggregates multiple writes and reads, reduces the overall IO/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tical Model of MdxN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6208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hows that caching is important at client end and even more important in wireless environment [Gemikonakli et al, 2006]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11A-2FDB-4848-986B-6A5598C3C3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8840" y="204480"/>
            <a:ext cx="82234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6520" y="1009800"/>
            <a:ext cx="822312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er, D. &amp; Silcott, D. The Design of a Storage Architecture for Mobile Heterogeneous Devices icns, IEEE Computer Society, 2007, 0, 4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pp, G.; Thakkar, D. &amp; Silcott, D. Network Memory Servers: An idea whose time has come Multi-Service Networks (MSN), 20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 ANSS '06: Proceedings of the 39th annual Symposium on Simulation, IEEE Computer Society, 2006, 127-13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mikonakli, O.; Mapp, G.; Ever, E. &amp; Thakker, D. Modelling Network Memory Servers with Parallel Processors, Break-downs and Repairs ANSS '07: Proceedings of the 40th Annual Simulation Symposium, IEEE Computer Society, 2007, 11-2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42C-5762-4E4D-B70E-B1B9063955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03320"/>
            <a:ext cx="8224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te Of the Art in Cachin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1920" y="1069920"/>
            <a:ext cx="8224560" cy="50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ching has revolved around the idea of a working-set mo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ience has shown that Least Recently Used (LRU) algorithm works relatively well with general applic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RU is unsuitable for applications such as database and multimedia which are becoming more importa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quential access patterns, no working set or Looping access patterns, size of the file is working s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us access patterns should be considered as part of cache management strateg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A06-2BBC-48A0-81A1-AE24A810B8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3680" y="-108000"/>
            <a:ext cx="8142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C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360" y="1260360"/>
            <a:ext cx="82249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920" y="90000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60000" y="826560"/>
            <a:ext cx="820908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Distributed fil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ceanst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kubiatowicz et al.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ed at caching to improve the response time and avail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rverless file system(xF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nderson et al., 1995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xFS client outperforms one NFS client by benefiting from cooperativ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ogle file syst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Ghemawat et al., 200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not caching sequential files, it showed performance gain for huge file that mostly reads and writes 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not looking at caching issues related to distributed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C1A-F007-4E21-8014-6280E72FA2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8640" y="0"/>
            <a:ext cx="8217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....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(previous research on caching)</a:t>
            </a:r>
            <a:r>
              <a:rPr b="0" lang="en-GB" sz="2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0360" y="900000"/>
            <a:ext cx="8459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60360" y="1079640"/>
            <a:ext cx="837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Using Controlled cache to enhance c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8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r-Controlled File Caching in Linux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[Alameldeen, 2000]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ing the amount of pages a file can occu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ing all pages of a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ing the per-file page replacement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ll file reads are unaffected by the large sequential file 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1400" indent="-325440">
              <a:lnSpc>
                <a:spcPct val="8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ing users to set number of pages can lead to unstab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4F7-BC47-4DFD-8355-6C83693113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0840" y="204480"/>
            <a:ext cx="81691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Application-Controlled File Caching Polic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79640" y="1599840"/>
            <a:ext cx="39495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uthor [Cao et al.,1994]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user-level control over file cache replace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d a two-level cache management sche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50920">
              <a:lnSpc>
                <a:spcPct val="8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Used variant of LRU as global algorith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1440000"/>
            <a:ext cx="4500720" cy="45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AF9-DE36-4542-BF9E-B808959E0B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Slide 1</dc:title>
</cp:coreProperties>
</file>