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8857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8632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0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886120" cy="3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885760" cy="37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C7A28-AF86-4125-9DF7-752E59608B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11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685800"/>
            <a:ext cx="4532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46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491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2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7CE-5E1C-4E5F-9C38-6FFC43F8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439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1439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147-AB3E-45F1-BFF0-46A64E10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0320" y="39650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18F-C49E-41E7-BB4B-152406B2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0840" y="15998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4840" y="15998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0840" y="39650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4840" y="39650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DF4-C20B-4AF3-AF50-1E6295BF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2657-4C73-4123-B4BA-6C9FE489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43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3E6D-6F48-4A99-A914-5571572F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43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D3AD-116C-4330-B988-B147911E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33EE-3D50-46CB-8DAA-566C9C54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0C33-CA42-4988-89F2-8319C729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1439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D6BB-0223-4E81-9D1A-EB233531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4353-60C6-4918-BCC2-414F37F2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43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9FD-C85E-4CE8-9B25-0A4C7FE9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0320" y="39650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275E-DDC8-4CD8-AAE5-BB628ACC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1439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6762-E237-4795-B1F4-04742095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439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1439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9121-1386-4962-847D-225EE496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0320" y="39650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32EE-1BDE-4C46-8133-82DE9F9F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0840" y="15998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4840" y="15998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0840" y="39650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4840" y="3965040"/>
            <a:ext cx="2622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0619-B97D-4801-874C-1EBF7FAF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43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A4D-167F-4FAE-BC44-08A4CF83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A80-189E-4A51-A8CC-B2489179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39B-325D-4803-972E-0B338B38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1439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A0C-804B-44CC-9BC4-2B5D04D8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BDF-5345-4666-A64D-03E44DAE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0320" y="39650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6CA-377D-41C5-BB0E-2686D6BB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0320" y="1599840"/>
            <a:ext cx="39740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1439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F9C-D819-421C-B776-ADDB037E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439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4392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29052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3254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04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30/08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101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04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256C9-C579-459E-8C96-BD746411D710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53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04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30/08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101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048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E1C305-D0F7-4074-8172-94033F6D249D}" type="slidenum">
              <a:rPr b="0" lang="en-GB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Improving file system performance using access patterns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2133720"/>
            <a:ext cx="82296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57040" indent="-25704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hawal N. Thakk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or of Studies: Dr. Glenford M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ervisor: Prof. Richard Born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600" y="5748480"/>
            <a:ext cx="1171800" cy="109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436-E9FB-4CB0-BE7B-52980D7A69F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0840" y="204480"/>
            <a:ext cx="816912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Detailed Study of Application-Controlled File Caching Polici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79640" y="1599840"/>
            <a:ext cx="39495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uthor [Cao et al.,1994]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ows user-level control over file cache replace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d a two-level cache management sche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Used variant of LRU as global algorith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1440000"/>
            <a:ext cx="4500720" cy="45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01A-65BD-48D9-A930-DFD409F4A5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4520" y="324000"/>
            <a:ext cx="8169480" cy="66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Garamond"/>
              </a:rPr>
              <a:t>Contd ...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(Detail study of Cao</a:t>
            </a:r>
            <a:r>
              <a:rPr b="0" lang="en-GB" sz="2400" spc="-1" strike="noStrike">
                <a:solidFill>
                  <a:srgbClr val="006633"/>
                </a:solidFill>
                <a:latin typeface="QWWQKH+CMR10"/>
                <a:ea typeface="QWWQKH+CMR10"/>
              </a:rPr>
              <a:t>’s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 work)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0160" y="971640"/>
            <a:ext cx="8350200" cy="57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Swapping techniq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o avoid unfairly penalising applic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lace holder techniq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o avoid application acquiring more blocks than global LR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Guarantees it performs as well as LRU or bet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Looked at access patterns individu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Replace the block whose next reference is farthest aw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st Recently Abandoned (MRA) for looping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oretical Study of Caching and Prefetching in integrated fash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Only static prefetching was implemen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7EE-A3CD-48DD-BEA0-FAB7634F84D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9280" y="286920"/>
            <a:ext cx="869472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Problem in application-controlled caching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140000" y="1079280"/>
            <a:ext cx="4679640" cy="57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global LRU can result in the wrong file being selected for repla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RU does not find the best allocation between the processes having different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rect 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sequential file blocks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hen the working-set file bl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1120" y="2227320"/>
            <a:ext cx="3999240" cy="29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B24-F51B-437A-A378-31CB96F1580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5560"/>
            <a:ext cx="818820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Garamond"/>
              </a:rPr>
              <a:t>Proposed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 Wo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60000" y="1079280"/>
            <a:ext cx="8188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caching mechanism which uses file access patterns for global replacement and dynamic prefet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 patterns that we will 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tial access patterns:- Only prefetch block will be c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ping access patterns:- Most Recently Abandoned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-set access patterns:- LRU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fetching will be used for Sequential and Looping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1B57-F38E-4067-8F93-FAF3860CA03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3680" y="212400"/>
            <a:ext cx="8177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1600200"/>
            <a:ext cx="41367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ach access pattern will be represented by a manager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ur work will develop a strategy to maintain fair allocation of blocks dynamically between access patterns and prefetching which will guarantee a stable cond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29080" y="6264360"/>
            <a:ext cx="40305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84200" y="2160720"/>
            <a:ext cx="3836880" cy="34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51D-51CD-4744-B719-E1D2B411BE2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6480" y="313920"/>
            <a:ext cx="8159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table Cond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"/>
          <p:cNvSpPr/>
          <p:nvPr/>
        </p:nvSpPr>
        <p:spPr>
          <a:xfrm>
            <a:off x="4429080" y="6264360"/>
            <a:ext cx="3959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8280360" cy="48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AF8-0F8C-43FD-8276-676AD22945F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3680" y="107640"/>
            <a:ext cx="81770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imulation and Develop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8720" y="934560"/>
            <a:ext cx="84596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ying UNIX buffer cache is diffic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propose to develop a test bed called Experimental File System (EF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s its own ca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use directory structure to specify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also develop a simulation to investigate the caching mechanisms using file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idea is to simulate the environment and to look a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ising cache mis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close we can get to the stable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9080" y="6264360"/>
            <a:ext cx="3994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2D6-F847-4DB2-9933-8236826F6E7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20840" y="252360"/>
            <a:ext cx="820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840" y="844560"/>
            <a:ext cx="8204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Kubiatowicz, J.; Bindel, D.; Chen, Y.; Eaton, S. C. P.; Geels, D.; OceanStore: an architecture for global-scale persistent storage, 200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nderson, T.; Dahlin, M.; Neefe, J.; Pat-terson, D.; Roselli, D. &amp; Wang, R. Serverless network file systems, 199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hemawat, S.; Gobioff, H. &amp; Leung, S. The Google file system, 2003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ai, V. S.; Druschel, P. &amp; Zwaenepoel, W. IO-Lite: a unified I/O buffering and caching system, 200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ao, P.; Felten, E. W.; Karlin, A. R. &amp; Li, K. A study of integrated prefetching and caching strategies, 199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lameldeen, A. R. &amp; Schneider, D. A. User-Controlled File Caching in Linux, 200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ao, P.; Felten, E. W. &amp; Li, K. Application-Controlled File Caching Policies, 199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emikonakli, O.; Mapp, G.; Thakker, D. &amp; Ever, E. Modelling and Performability Analysis of Network Memory Servers, 200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5C6-AE37-4F73-84DD-60C173E4D7D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1700280"/>
            <a:ext cx="889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927520"/>
            <a:ext cx="8964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116000" cy="22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0E1-EA4C-443E-B64C-9B2B0F70762F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3760" y="169920"/>
            <a:ext cx="82234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Outline of this tal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7600" y="1079280"/>
            <a:ext cx="8223120" cy="46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tivation for the work: Network Memory Server(NM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do we need cac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e Of The Art in Caching (problem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ious work done and thei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tailed study of Pei Cao'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ed Solution: To improve cache performance by looking at file access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a simulation and a test bed to explore caching mechanisms using file access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BAC-AEAA-4C8C-88A8-33E4641AA32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5920" y="204480"/>
            <a:ext cx="82296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cept of a Network Memory Serv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30040" y="1260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s storage over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ications inclu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age for heterogeneous mobil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k Cach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Memory Applications (LM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ging de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s over Fast Commodity Hardware e.g Gigabit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3B4-8457-4DFF-89CD-50ED7E75D6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3560" y="-46080"/>
            <a:ext cx="818208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Why do we need caching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5232240" y="2003400"/>
            <a:ext cx="304812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060560"/>
            <a:ext cx="818208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/O operations are not fast enough when compared to processing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so network software is not fast enough for network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ching could be used to improve the respons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ggregates multiple writes and reads, reduces the overall IO/network traff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tical Model of mdxN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5704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hows that caching is important at client end and even more important in wireless environment [Gemikonakli et al, 2006]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72C-62D7-41D9-A13C-F68D5E3E4DB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8840" y="204480"/>
            <a:ext cx="822348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ublished Pap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36520" y="1009800"/>
            <a:ext cx="822312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09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pp, G.; Thakker, D. &amp; Silcott, D. The Design of a Storage Architecture for Mobile Heterogeneous Devices icns, IEEE Computer Society, 2007, 0, 4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pp, G.; Thakkar, D. &amp; Silcott, D. Network Memory Servers: An idea whose time has come Multi-Service Networks (MSN), 200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mikonakli, O.; Mapp, G.; Thakker, D. &amp; Ever, E. Modelling and Performability Analysis of Network Memory Servers ANSS '06: Proceedings of the 39th annual Symposium on Simulation, IEEE Computer Society, 2006, 127-13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mikonakli, O.; Mapp, G.; Ever, E. &amp; Thakker, D. Modelling Network Memory Servers with Parallel Processors, Break-downs and Repairs ANSS '07: Proceedings of the 40th Annual Simulation Symposium, IEEE Computer Society, 2007, 11-2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741-05C5-4D17-AB6A-3BE363E9784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822492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tate Of the Art in Caching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1920" y="1069920"/>
            <a:ext cx="8224560" cy="50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ching has revolved around the idea of a working-set mo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rience has shown that Least Recently Used (LRU) algorithm works relatively well with general applic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RU is unsuitable for applications such as database and multimedia which are becoming more importa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quential access patterns, no working set or Looping access patterns, size of the file is working s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us access patterns should be considered as part of cache management strateg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884-9EF5-4148-94B6-C44A2D2858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3680" y="-108000"/>
            <a:ext cx="81421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evious Research On C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360" y="1260360"/>
            <a:ext cx="82249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920" y="900000"/>
            <a:ext cx="8640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60000" y="826560"/>
            <a:ext cx="82090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Distributed file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ceanst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kubiatowicz et al., 2000]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ed at caching to improve the response time and avail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rverless file system(xFS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Anderson et al., 1995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xFS client outperforms one NFS client by benefiting from cooperative c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oogle file syste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Ghemawat et al., 200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not caching sequential files, it showed performance gain for huge file that mostly reads and writes sequenti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not looking at caching issues related to distributed fi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B26-2180-4617-BAB7-4215848EF9F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21840"/>
            <a:ext cx="814860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Caching Mechanis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8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0920">
              <a:lnSpc>
                <a:spcPct val="7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U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8840" indent="-250920">
              <a:lnSpc>
                <a:spcPct val="7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PE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064-2AD3-43C3-8300-67B53DE643D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8640" y="0"/>
            <a:ext cx="8217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td....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(previous research on caching)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0360" y="900000"/>
            <a:ext cx="84596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60360" y="1079640"/>
            <a:ext cx="837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Using Controlled cache to enhance c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r-Controlled File Caching in Linux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Alameldeen, 2000]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ing the amount of pages a file can occu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ing all pages of a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ling the per-file page replacement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mall file reads are unaffected by the large sequential file r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672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owing users to set number of pages can lead to unstab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4B4-0EDB-4B55-BAE6-1B86FD4DA97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