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4760" y="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16480" cy="33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330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8562960"/>
            <a:ext cx="2852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8159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8CF38-924A-4356-84EE-0A0037A6B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7"/>
          </p:nvPr>
        </p:nvSpPr>
        <p:spPr>
          <a:xfrm>
            <a:off x="-360" y="8686440"/>
            <a:ext cx="29638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8"/>
          </p:nvPr>
        </p:nvSpPr>
        <p:spPr>
          <a:xfrm>
            <a:off x="3881160" y="-360"/>
            <a:ext cx="296388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39B98-082C-4F50-B3D2-7BD1041A2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6801-47A3-467B-AC30-56F29CDA4D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3000" y="685800"/>
            <a:ext cx="4532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3F559-8B08-42BE-914F-925095018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3023-6674-418A-8106-B91D426ED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4AD1E-6974-41B6-BA28-372CBEFC1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257BB-26F9-4710-8A24-68CF180A2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D27A9-39EA-4D29-B782-07B9987C0B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B17C1-2788-480F-949D-4F98BFD1E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BA7A-BC0F-4414-B77A-224EBA5D3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C6344-7B6F-4938-96F1-CCF8DCFFA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143000" y="685800"/>
            <a:ext cx="443088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685800"/>
            <a:ext cx="443700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43556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F83A3-D1BD-4FCE-B535-9EAC9D4DE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685800"/>
            <a:ext cx="4519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4B1F4-CE82-4A97-89C4-2D05D539D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16C0-5592-4299-B87A-DB7B275EF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85800"/>
            <a:ext cx="4546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D576C-DDB5-4C58-ADFE-6C8EDB014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8580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8AD0B-BEB8-42C6-A142-58EB308BB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10EDE-439E-4B4E-A31F-382FC3D12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85800"/>
            <a:ext cx="444816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8FE39-0F0E-43CE-ABF6-6F6952564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685800"/>
            <a:ext cx="4491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F7019-951C-49DA-BD98-66888E655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685800"/>
            <a:ext cx="45306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79BB1-64D8-43E6-873B-6F9E8E40B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685800"/>
            <a:ext cx="4511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AB0A1-803F-492F-A59C-67CD898FA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685800"/>
            <a:ext cx="4468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3323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F33B-F6EF-4E0C-BD9C-5DF6D4BF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B799-2B0D-4826-89BF-9C97114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DB73-0F73-45F7-89CC-943E1F2F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708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708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696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A02F-E28C-44C2-B7A5-DD3DE340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CA88C-389A-4DC8-A3D5-DC63A4C87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6166-21D7-4C4D-B839-C92C80F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0A900-4F9E-49CB-8CE9-49A7258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8C504-E361-4CC5-BB85-76C32C3F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76413-9121-4590-AE4D-C561628A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07408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7D0E6-44E4-4C56-B8FF-EE7E305F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F17CF-5F3A-4D70-A406-021FD56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EE87-1F70-4CDB-8A96-60E5C9F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611F8-0919-4744-96E5-60E395D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9BE49-A73E-471E-A242-39EE641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41E4-06D1-467E-BF9F-E70DF9EC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AAD87-2E21-47EA-A359-9226F0F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708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6960" y="159984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708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6960" y="3945600"/>
            <a:ext cx="259956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4228E-1C0C-4E3D-8F8E-A9183C8DF1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2778-F483-4F3F-AA1B-15FD9FA8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156E-CC30-48AF-82DF-13D07A75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AB7C-576C-4567-9455-D0C467E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07408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17B6-93E6-4BFF-A2C7-2729FA77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44F7-53D7-4D8A-9E0E-5C10EC8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4320" y="394560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6114-C83D-4B89-B5A2-F4BD6FD0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4320" y="1599840"/>
            <a:ext cx="393984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5600"/>
            <a:ext cx="8074080" cy="21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"/>
              </a:lnSpc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F244-3942-4D12-BC88-5BE9D8FE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40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0740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2544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4400" indent="-23508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325440">
              <a:lnSpc>
                <a:spcPct val="7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325440">
              <a:lnSpc>
                <a:spcPct val="7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12612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D487B-1384-4D68-87F9-C8EF2DD14DB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827440" y="5178600"/>
            <a:ext cx="251136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CM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00360" y="6246720"/>
            <a:ext cx="3774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entury Schoolbook L"/>
              </a:rPr>
              <a:t>CCM Networking Research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2580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800" spc="-1" strike="noStrike">
                <a:solidFill>
                  <a:srgbClr val="000000"/>
                </a:solidFill>
                <a:latin typeface="Century Schoolbook 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46748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30/08/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38800"/>
            <a:ext cx="277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2040"/>
            <a:ext cx="19782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defRPr>
            </a:lvl1pPr>
          </a:lstStyle>
          <a:p>
            <a:pPr indent="0" algn="r">
              <a:lnSpc>
                <a:spcPct val="9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9ECAFF-657A-42EE-94E8-E76070817C85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7920"/>
            <a:ext cx="822960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alancing Streaming and Demand Accesses in a Network Based Storage Environ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160720"/>
            <a:ext cx="82296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hawal N. Thakk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ctr">
              <a:lnSpc>
                <a:spcPct val="65000"/>
              </a:lnSpc>
              <a:spcAft>
                <a:spcPts val="1137"/>
              </a:spcAft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600" y="5748480"/>
            <a:ext cx="117180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360360"/>
            <a:ext cx="8783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blems in C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0360" y="1440000"/>
            <a:ext cx="845964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multiple threads tied up system and network resources and hence was not opt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sing NFS was the main draw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uld not take advantage of clust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PU cost while fetching one block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B565-E3C7-4548-8688-B73B503B64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2520" y="262080"/>
            <a:ext cx="8188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oposed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0360" y="1079640"/>
            <a:ext cx="8280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 clustering and prefetching over the network using N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guarantee the quality of serv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reaming applications (once they are started) with no j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nd requests should be satisfy in reasonable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C36E-267E-4A77-B620-B4CA0DFBD0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1260360"/>
            <a:ext cx="82803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llows streaming applications to run without jit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&lt; Time to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Cp &lt;= Tcpu *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waiting time expereince to satisfy Demand misses should be less than the average waiting time on disk (Tdis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C0EE-8BEB-4723-A46C-F28F164FF5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360360"/>
            <a:ext cx="80996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servative Prefetching: Po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" y="900000"/>
            <a:ext cx="8280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 would first adopt the conservative approach taken by Pei Ca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 only prefetch when there is a demand miss i.e Prefetching on Demand (PonD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refore, using Pon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&lt;= ( Tcpu * p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demand misses, the waiting time should be less than average waiting time on dis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+ Twait &lt;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 + (p+d) * C + Twait &lt;= T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229A-E1B3-49A4-BCB9-3762EC9AAD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36680" y="178920"/>
            <a:ext cx="802296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53880" y="900000"/>
            <a:ext cx="81057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trol the prefetch rates for streaming appl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 are totally ran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analyse average waiting time on the demand queue for different arrival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1B5F-B64C-4649-A6AD-D7337A6A4EB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8200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wards an Analytica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7640" y="2339640"/>
            <a:ext cx="8081640" cy="3779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79640" y="2879640"/>
            <a:ext cx="7151400" cy="2519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0360" y="107964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8600">
              <a:lnSpc>
                <a:spcPct val="85000"/>
              </a:lnSpc>
              <a:spcAft>
                <a:spcPts val="227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represent this scenario as a single queue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B8AB-34E6-434B-A59C-A642938E074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360360"/>
            <a:ext cx="81709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andard Solution: Partial Bulk Servic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3600000"/>
            <a:ext cx="8105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80000"/>
              </a:lnSpc>
              <a:spcBef>
                <a:spcPts val="850"/>
              </a:spcBef>
              <a:spcAft>
                <a:spcPts val="850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ccurate at very high loads, but it is not suitable for low 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0000"/>
              </a:lnSpc>
              <a:spcBef>
                <a:spcPts val="850"/>
              </a:spcBef>
              <a:spcAft>
                <a:spcPts val="339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haustive-limited while our scenario is gate- limi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7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a new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8459640" cy="19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ADE3-9779-451C-A815-3E03D76D8F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9640" y="17928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Our Mode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0720" y="1600200"/>
            <a:ext cx="41367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9640" y="1015920"/>
            <a:ext cx="809964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704D-DEF3-438B-AE40-D1C4319EE6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9640" y="179280"/>
            <a:ext cx="7996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Model for d 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792000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4A33-DD7E-45C9-AD36-246CCD094E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63680" y="360360"/>
            <a:ext cx="79959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sults: Varifying results from simulation with Bulk service model and Our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60360" y="1619280"/>
            <a:ext cx="82803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CE07-F70B-44B6-9EDE-F3A8BE970A2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4120" y="312840"/>
            <a:ext cx="82234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Streaming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00" y="1079640"/>
            <a:ext cx="824364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d use of YouTube, BBC-IPlayer applications which run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fe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Clustering help to reduce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 mi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8896-0C3C-4601-B20D-5683E886E1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08848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Defining an Operational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75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define an operational space consisting of three ax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00000" y="2700360"/>
            <a:ext cx="6924960" cy="34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16F2-DD58-41AB-9F0C-C8D7667A7C0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4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Navigating the space using constrai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94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567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wait, demand misses &lt; T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16000">
              <a:lnSpc>
                <a:spcPct val="95000"/>
              </a:lnSpc>
              <a:spcBef>
                <a:spcPts val="737"/>
              </a:spcBef>
              <a:spcAft>
                <a:spcPts val="5675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net(p+d)  &lt;  P* Tcp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A9DB-6F4C-4E34-8A3C-2F4B928BFF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Exploring the space for a given arrival rate, 350 microsec </a:t>
            </a:r>
            <a:br>
              <a:rPr sz="2600"/>
            </a:b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CFCA-1361-4A03-8B2B-1E678627BF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52B1-44B1-46FB-AF51-82E49CF4BF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31392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3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FD5F-0CF3-4E4B-8452-84D6A08077F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9640" y="181944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AFA1-398D-4799-89AE-33170476F80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93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Exploring the Space, 250microse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093160" cy="4510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39640" y="1820880"/>
            <a:ext cx="77407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C2A3-694E-44AD-9FFE-F071BB84F78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640" y="360360"/>
            <a:ext cx="788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4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Future 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0360" y="1079640"/>
            <a:ext cx="828036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more accurate analytic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42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w model based on P2,2 that appears to be more accurate over a wider 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n algorithm to automate the process of exploring space (D = 1 - 5 and P = 1 - 20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udy the effect on cache due to prefetch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0000"/>
              </a:lnSpc>
              <a:spcBef>
                <a:spcPts val="3124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erimental File System (EF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0000"/>
              </a:lnSpc>
              <a:spcBef>
                <a:spcPts val="1426"/>
              </a:spcBef>
              <a:spcAft>
                <a:spcPts val="142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 find out real tim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C49C-12C2-4034-A0BB-588CEB4420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60360" y="360360"/>
            <a:ext cx="8247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ublished Pap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6000" y="900000"/>
            <a:ext cx="8243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esign of a Storage Architecture for Mobile Heterogeneous Devices icns, IEEE Computer Society, 2007, 0, 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 Memory Servers: An idea whose time has come Multi-Service Networks (MSN)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and Performability Analysis of Network Memory Servers ANSS '06: Proceedings of the 39th annual Symposium on Simulation, IEEE Computer Society, 2006, 127-1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37"/>
              </a:spcBef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Network Memory Servers with Parallel Processors, Break-downs and Repairs ANSS '07: Proceedings of the 40th Annual Simulation Symposium, IEEE Computer Society, 2007, 11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1787-F7F3-4D8D-AF49-AEE55B0C1F1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360360"/>
            <a:ext cx="8085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5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840" y="844560"/>
            <a:ext cx="8204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o, P.;  Application-Controlled File Caching Policies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mikonakli, O.; Mapp, G.; Thakker, D. &amp; Ever, E. Modelling and Performability Analysis of Network Memory Servers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Rochberg et al. Prefetching over a network: early experience with CTIP. SIGMETRICS Perform. Eval. Rev., 25(3):29–36,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. H. Patterson et al. Informed Prefetching and Caching. In SOSP ’95:Proceedings of the fifteenth ACM symposium on Operating systems principles, 1995. A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Li, K. Shen et al., Competitive prefetching for concurrent sequential I/O. SIGOPS Oper. Syst.,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E. Papathanasiou et al., Energy efficient prefetching and caching. In ATEC: USENIX Annual Technical Conference,  2004. USENIX Assoc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1DAE-2982-48F5-A722-DCA28D113E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311040"/>
            <a:ext cx="8182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12920"/>
                <a:tab algn="l" pos="861840"/>
                <a:tab algn="l" pos="1311120"/>
                <a:tab algn="l" pos="1760400"/>
                <a:tab algn="l" pos="2209680"/>
                <a:tab algn="l" pos="2658960"/>
                <a:tab algn="l" pos="3108240"/>
                <a:tab algn="l" pos="3557520"/>
                <a:tab algn="l" pos="4006800"/>
                <a:tab algn="l" pos="4456080"/>
                <a:tab algn="l" pos="4905360"/>
                <a:tab algn="l" pos="5389560"/>
                <a:tab algn="l" pos="5803920"/>
                <a:tab algn="l" pos="6253200"/>
                <a:tab algn="l" pos="6702480"/>
                <a:tab algn="l" pos="7151760"/>
                <a:tab algn="l" pos="7601040"/>
                <a:tab algn="l" pos="8050320"/>
                <a:tab algn="l" pos="8499600"/>
                <a:tab algn="l" pos="8948880"/>
                <a:tab algn="l" pos="8950320"/>
                <a:tab algn="l" pos="9399600"/>
                <a:tab algn="l" pos="984888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lustering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in the context of the networks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32240" y="2003400"/>
            <a:ext cx="3048120" cy="30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60000" y="900000"/>
            <a:ext cx="8558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86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Clus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37"/>
              </a:spcBef>
              <a:spcAft>
                <a:spcPts val="255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hy Clustering over th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software not fast en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ggregates reads and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52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tter use of 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ing can bene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7CC0-9252-4223-9C41-17659699BC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700280"/>
            <a:ext cx="8893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535640"/>
            <a:ext cx="896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1432080"/>
            <a:ext cx="1901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0A30-3B34-4967-9D28-3B7248894AB6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49200" y="276120"/>
            <a:ext cx="8229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cept of a Network Memory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760" y="118908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storage over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over Fast Commodity Hard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lock-based system, can request several blocks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mulates the commercial environment for stream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uch as video-on-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706C-8A4B-4C38-B331-EF37B20921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60360" y="1258920"/>
            <a:ext cx="8459640" cy="3600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319640" y="5580000"/>
            <a:ext cx="414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" y="36036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Benefits of Clus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0720" y="5400720"/>
            <a:ext cx="611964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5080" y="5126040"/>
            <a:ext cx="7954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371600">
              <a:lnSpc>
                <a:spcPct val="85000"/>
              </a:lnSpc>
              <a:spcAft>
                <a:spcPts val="2276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me to Fetch p blocks = L + 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3BB5-38C6-42AA-8746-9D85B504D0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0360" y="900000"/>
            <a:ext cx="845964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efetching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170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Prefetching and Caching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[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ei Cao et al., 199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339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only static prefetching in which a _x000c_fixed number of blocks were prefet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85840">
              <a:lnSpc>
                <a:spcPct val="85000"/>
              </a:lnSpc>
              <a:spcAft>
                <a:spcPts val="850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petitive prefetching for concurrent sequential I/O.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[Li et al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200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]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325440">
              <a:lnSpc>
                <a:spcPct val="85000"/>
              </a:lnSpc>
              <a:spcAft>
                <a:spcPts val="17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controls the prefetching dep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79280"/>
            <a:ext cx="7956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vious Research On Prefet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0767-D280-4A31-A5D1-5D0C031E9C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168120"/>
            <a:ext cx="81691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Detailed Study of Informed Prefetching and Caching </a:t>
            </a:r>
            <a:r>
              <a:rPr b="0" lang="en-GB" sz="2400" spc="-1" strike="noStrike">
                <a:solidFill>
                  <a:srgbClr val="006633"/>
                </a:solidFill>
                <a:latin typeface="Arial"/>
              </a:rPr>
              <a:t>[R. H. Patterson et al., 19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7800" y="1260360"/>
            <a:ext cx="83329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xploits access patterns and I/O 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792000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35B4-65E9-44E0-B678-77525F0D517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36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Contd ... (Detail study of  Patterson's Work)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0360" y="1739880"/>
            <a:ext cx="815184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efetch Hori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7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pto 20% to 85%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sk Cen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rallel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BE8C-57D1-4A5F-BA37-DA0B0C5E36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9640" y="36036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Prefetching Over a network: early experience with CTIP [</a:t>
            </a:r>
            <a:r>
              <a:rPr b="1" lang="en-GB" sz="2400" spc="-1" strike="noStrike">
                <a:solidFill>
                  <a:srgbClr val="006633"/>
                </a:solidFill>
                <a:latin typeface="Arial"/>
              </a:rPr>
              <a:t>D. Rochberg et al.</a:t>
            </a:r>
            <a:r>
              <a:rPr b="0" lang="en-GB" sz="3600" spc="-1" strike="noStrike">
                <a:solidFill>
                  <a:srgbClr val="006633"/>
                </a:solidFill>
                <a:latin typeface="Arial"/>
              </a:rPr>
              <a:t>, 1997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9720" y="1690560"/>
            <a:ext cx="8126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of  Patterson's work to a network storage, using N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ulated parallel disk approach using multipl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prefetching strategy explored in Patterson's 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16000">
              <a:lnSpc>
                <a:spcPct val="85000"/>
              </a:lnSpc>
              <a:spcAft>
                <a:spcPts val="4249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ed performance improvement by reducing execution time (17% - 62%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hool of EIS, CCM Research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5B72-24CC-4C0C-BC8A-7B09399A2A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dlesex University</cp:lastModifiedBy>
  <cp:revision>0</cp:revision>
  <dc:subject/>
  <dc:title>Slide 1</dc:title>
</cp:coreProperties>
</file>