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7.wmf" ContentType="image/x-wmf"/>
  <Override PartName="/ppt/media/image1.png" ContentType="image/png"/>
  <Override PartName="/ppt/media/image2.png" ContentType="image/png"/>
  <Override PartName="/ppt/media/image3.wmf" ContentType="image/x-wmf"/>
  <Override PartName="/ppt/media/image12.wmf" ContentType="image/x-wmf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852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4760" y="0"/>
            <a:ext cx="2852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406760" cy="33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3211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8562960"/>
            <a:ext cx="2852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8065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6017F-8135-42D8-BC25-3D0D02FB4A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7"/>
          </p:nvPr>
        </p:nvSpPr>
        <p:spPr>
          <a:xfrm>
            <a:off x="0" y="868644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dt" idx="8"/>
          </p:nvPr>
        </p:nvSpPr>
        <p:spPr>
          <a:xfrm>
            <a:off x="3881520" y="-36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B567F-2807-45B5-B70D-B144487741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5AB88-E1DD-4C91-AAE0-66DD31D02F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8250D-2AC5-42D7-B7F9-C518BB6A40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78F01-C1B1-4006-995D-21230E8FC8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43000" y="685800"/>
            <a:ext cx="444816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43000" y="685800"/>
            <a:ext cx="444816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B5E38-CA24-4138-8E54-7349884DF9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24551-C99A-4559-A40B-2E48EAE28E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56ED3-F0EE-4013-9A8D-40B1DE9EC2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190CC-8B8A-4D40-A362-DD856D1435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143000" y="685800"/>
            <a:ext cx="443088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CEC05-B43D-4BC4-85D8-606EFDA846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26E10-7A0E-4E46-A234-7DA8299022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342C6-173D-4B71-ADC4-1B87A8797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9F9F9-8565-4A1C-A639-06D81EA69B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43000" y="685800"/>
            <a:ext cx="4546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3AE6C-D0EB-445F-AC70-53447F041B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AA5C1-94C9-4713-8793-5ED60929B3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580CA-7F94-4161-819D-309C1ECA22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143000" y="685800"/>
            <a:ext cx="444816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387EB-84C5-4A5A-BA96-EBF8512054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685800"/>
            <a:ext cx="4491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D86EA-DA5D-4D57-BC52-51D4BF3879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FC1A7-D155-448A-852F-B4302CC44A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685800"/>
            <a:ext cx="4511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CFB84-2A8D-44D4-BEEC-C563129DE5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43000" y="685800"/>
            <a:ext cx="4468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2296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0F8F-6C57-46BA-8003-EBA56D48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643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40920"/>
            <a:ext cx="80643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8876-E51E-4172-BD38-CE9E39A5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928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89280" y="394092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444C-2A46-4FB1-A30B-0E2A8BB4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3480" y="159984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9760" y="159984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4092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3480" y="394092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9760" y="394092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ACCF-5AB0-437B-BFCD-67DF2714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0D69C-D696-4FC7-9DA5-5F91A0E11A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0643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B2755-E07E-412B-9C5E-10057594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643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8A338-DF69-4EE1-8701-AA9BD897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351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89280" y="1599840"/>
            <a:ext cx="39351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EF31F-9E22-4831-AB00-70B016E1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E1FE7-5A5D-4019-B275-F1786C4D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06436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1A187-95C3-46B8-B328-C485F044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89280" y="1599840"/>
            <a:ext cx="39351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019E4-580F-4F4D-AB5B-E22ECFEE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0643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096E6-ECE4-4D90-9432-98D8B84F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351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8928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89280" y="394092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44FC0-7F12-494A-A7A1-EDDEDD64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8928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80643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A7742-E838-4192-AAD2-3F1B6583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643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3940920"/>
            <a:ext cx="80643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DBA58-4AF6-4BFA-B5B6-D9FB7B11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8928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89280" y="394092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605E6-40F2-453A-99C1-423868D4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3480" y="159984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9760" y="159984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394092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3480" y="394092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9760" y="3940920"/>
            <a:ext cx="259632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CDA1B-5689-43AB-9EFE-3017864875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643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A989-0B6F-4AF8-9ECF-355C8866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351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89280" y="1599840"/>
            <a:ext cx="39351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F8F3-E140-40E3-B9F4-DD38366A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A6C2-F9AE-4519-888A-5D9B17E2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06436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AB7B-EB7A-4F0E-9383-3A8272D8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9280" y="1599840"/>
            <a:ext cx="39351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7893-C38B-4A53-AF32-3A6C7C29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351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928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9280" y="394092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A2B3-A810-4518-B344-820EBCB2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9280" y="1599840"/>
            <a:ext cx="39351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40920"/>
            <a:ext cx="8064360" cy="213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FB36-1B15-48EB-A0CC-F72BA1B3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6436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06436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-27612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74680" indent="-22860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32544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325440">
              <a:lnSpc>
                <a:spcPct val="7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325440">
              <a:lnSpc>
                <a:spcPct val="7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126120"/>
            <a:ext cx="277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2040"/>
            <a:ext cx="196848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63E5B-1244-41C6-8C87-6EF1DCCBF4FA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827440" y="5178600"/>
            <a:ext cx="251136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CCM Research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806480" y="6276960"/>
            <a:ext cx="5205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GB" sz="1800" spc="-1" strike="noStrike">
                <a:solidFill>
                  <a:srgbClr val="000000"/>
                </a:solidFill>
                <a:latin typeface="Century Schoolbook 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entury Schoolbook L"/>
              </a:rPr>
              <a:t>Middlesex Uni. Networking Research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457200" y="6246360"/>
            <a:ext cx="211608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GB" sz="1800" spc="-1" strike="noStrike">
                <a:solidFill>
                  <a:srgbClr val="000000"/>
                </a:solidFill>
                <a:latin typeface="Century Schoolbook 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458120" cy="17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7200" y="6242040"/>
            <a:ext cx="196848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Bitstream Vera Sans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  <a:ea typeface="Bitstream Vera Sans"/>
              </a:rPr>
              <a:t>30/08/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38800"/>
            <a:ext cx="277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553080" y="6242040"/>
            <a:ext cx="196848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Bitstream Vera Sans"/>
              </a:defRPr>
            </a:lvl1pPr>
          </a:lstStyle>
          <a:p>
            <a:pPr indent="0" algn="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55607EE-8B14-43D5-A48F-9529573AC6BF}" type="slidenum">
              <a:rPr b="0" lang="en-GB" sz="1200" spc="-1" strike="noStrike">
                <a:solidFill>
                  <a:srgbClr val="000000"/>
                </a:solidFill>
                <a:latin typeface="Garamond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277920"/>
            <a:ext cx="82296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Modelling mixed access-patterns in Network-Based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2160720"/>
            <a:ext cx="82296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hawal N. Thakk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2600" y="5748480"/>
            <a:ext cx="117180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2520" y="262080"/>
            <a:ext cx="81882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oposed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0360" y="1079640"/>
            <a:ext cx="828036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oit clustering and prefetching over the network using N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guarantee the quality of servi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27612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reaming applications (once they are started) with no ji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27612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mand requests, in reasonable ti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F191-7D7D-40DC-A7D9-89F06D4618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9640" y="360360"/>
            <a:ext cx="80996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" y="1260360"/>
            <a:ext cx="828036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llows streaming applications to run without jitt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27612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ime to fetch &lt; Time to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 + Cp &lt; Tcpu * 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verage waiting time expereince to satisfy Demand misses &lt; the average waiting time on disk (Tdisk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 + (d * C) + Twait &lt; Tdis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932E2-7861-4BC0-A8D8-86511F98DE3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9640" y="360360"/>
            <a:ext cx="80996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servative Prefetching: Po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0360" y="900000"/>
            <a:ext cx="8280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irst adopt the conservative approach taken by Pei Ca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efetch when there is a demand miss i.e Prefetching on Demand (PonD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refore, using PonD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 + (p+d) * C &lt; ( Tcpu * p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or demand misses, the waiting time &lt; Tdis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ime to fetch + Twait &lt; T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 + (p+d) * C + Twait &lt; T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3907-83F6-45B5-9C8B-FECCA36C787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6680" y="178920"/>
            <a:ext cx="802296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wards an Analytical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353880" y="1080720"/>
            <a:ext cx="810576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an control the prefetch rates for streaming appl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mand misses are totally rand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eed to analyse average waiting time on the demand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20720" y="4319640"/>
            <a:ext cx="7199280" cy="22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5787-5FAC-406D-8B34-2C5CD59BC66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82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wards an Analytical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77640" y="2339640"/>
            <a:ext cx="8081640" cy="3779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079640" y="2879640"/>
            <a:ext cx="7151400" cy="2519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60360" y="1079640"/>
            <a:ext cx="774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represent this scenario as a single queue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5411-FE7A-4A7F-A4EB-47DEF4454F3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68360" y="360360"/>
            <a:ext cx="8170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Standard Solution: Partial Bulk Service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3600000"/>
            <a:ext cx="81057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6000">
              <a:lnSpc>
                <a:spcPct val="80000"/>
              </a:lnSpc>
              <a:spcBef>
                <a:spcPts val="850"/>
              </a:spcBef>
              <a:spcAft>
                <a:spcPts val="8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ccurate at very high loads, but it is not suitable for low loa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4720" indent="-276120">
              <a:lnSpc>
                <a:spcPct val="80000"/>
              </a:lnSpc>
              <a:spcBef>
                <a:spcPts val="850"/>
              </a:spcBef>
              <a:spcAft>
                <a:spcPts val="3399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haustive-limited while our scenario is gate- limi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1600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 a new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8459640" cy="19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8551-C81E-4405-8470-6B2403ADF73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39640" y="179280"/>
            <a:ext cx="81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Our Mode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00720" y="1600200"/>
            <a:ext cx="41367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39640" y="1015920"/>
            <a:ext cx="8099640" cy="510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AFD4-55EB-4F37-BC68-F0C41EFBD90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39640" y="179280"/>
            <a:ext cx="7996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Model for d 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7920000" cy="395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BB56-F125-4A9E-BB02-F6CABF8E2B0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3680" y="360360"/>
            <a:ext cx="79959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Results: Varifying results from simulation with Bulk service model and Our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60360" y="1619280"/>
            <a:ext cx="82803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CB5F-DBE6-4F83-8323-08E5FFB62EC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08848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Defining an Operational Spa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0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6000">
              <a:lnSpc>
                <a:spcPct val="7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fine an operational space consisting of three ax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900000" y="2340000"/>
            <a:ext cx="6924960" cy="2340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39640" y="4840200"/>
            <a:ext cx="80946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16000">
              <a:lnSpc>
                <a:spcPct val="95000"/>
              </a:lnSpc>
              <a:spcBef>
                <a:spcPts val="737"/>
              </a:spcBef>
              <a:spcAft>
                <a:spcPts val="142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wait, demand misses &lt; T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95000"/>
              </a:lnSpc>
              <a:spcBef>
                <a:spcPts val="737"/>
              </a:spcBef>
              <a:spcAft>
                <a:spcPts val="142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net(p+d)  &lt;  P* Tcpu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6089-F6C3-455D-9B23-FB5D7D8B155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84120" y="312840"/>
            <a:ext cx="82234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Streaming ap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6000" y="1079640"/>
            <a:ext cx="824364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d use of YouTube, BBC-IPlayer applic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tial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fetc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27612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an Clustering help to reduce c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and mi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FE3A-1862-4BF0-9F71-5F8D1420C8B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6633"/>
                </a:solidFill>
                <a:latin typeface="Garamond"/>
              </a:rPr>
              <a:t>Exploring the space for a given inter arrival time, 350 microsec </a:t>
            </a:r>
            <a:br>
              <a:rPr sz="2600"/>
            </a:b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39640" y="180036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D298-AFC9-4D10-9075-97C0FD75209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ploring the Space, 350microsec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39640" y="181944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7073-16F0-4C0C-BBD2-3A23385112A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31392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ploring the Space, 350microse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39640" y="182088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E506-7DD2-4B88-9C46-1DE027C419D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ploring the Space, 250microse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539640" y="182088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A8D6-3E4C-4F55-85A6-7BB74A86D3A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39640" y="360360"/>
            <a:ext cx="788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4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Future Wor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0360" y="1079640"/>
            <a:ext cx="828036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16000">
              <a:lnSpc>
                <a:spcPct val="80000"/>
              </a:lnSpc>
              <a:spcBef>
                <a:spcPts val="3124"/>
              </a:spcBef>
              <a:spcAft>
                <a:spcPts val="28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more accurate analytical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0000"/>
              </a:lnSpc>
              <a:spcBef>
                <a:spcPts val="3124"/>
              </a:spcBef>
              <a:spcAft>
                <a:spcPts val="142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n algorithm to automate the process of exploring space (D = 1 - 5 and P = 1 - 20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0000"/>
              </a:lnSpc>
              <a:spcBef>
                <a:spcPts val="3124"/>
              </a:spcBef>
              <a:spcAft>
                <a:spcPts val="142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udy the effect on cache due to prefetching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0000"/>
              </a:lnSpc>
              <a:spcBef>
                <a:spcPts val="3124"/>
              </a:spcBef>
              <a:spcAft>
                <a:spcPts val="28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xperimental File System (EF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325440">
              <a:lnSpc>
                <a:spcPct val="80000"/>
              </a:lnSpc>
              <a:spcBef>
                <a:spcPts val="1426"/>
              </a:spcBef>
              <a:spcAft>
                <a:spcPts val="142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 find out real time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AA413-74AD-4311-AC18-56B14F16998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60360" y="360360"/>
            <a:ext cx="8247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ublished Pap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6000" y="900000"/>
            <a:ext cx="824364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esign of a Storage Architecture for Mobile Heterogeneous Devices icns, IEEE Computer Society, 2007, 0, 4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 Memory Servers: An idea whose time has come Multi-Service Networks (MSN),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ling and Performability Analysis of Network Memory Servers ANSS '06: Proceedings of the 39th annual Symposium on Simulation, IEEE Computer Society, 2006, 127-1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ling Network Memory Servers with Parallel Processors, Break-downs and Repairs ANSS '07: Proceedings of the 40th Annual Simulation Symposium, IEEE Computer Society, 2007, 11-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25DF-B875-4D17-A398-2D8C258B1CD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539640" y="360360"/>
            <a:ext cx="8085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2840" y="844560"/>
            <a:ext cx="8204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o, P.;  Application-Controlled File Caching Policies, 19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mikonakli, O.; Mapp, G.; Thakker, D. &amp; Ever, E. Modelling and Performability Analysis of Network Memory Servers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. Rochberg et al. Prefetching over a network: early experience with CTIP. SIGMETRICS Perform. Eval. Rev., 25(3):29–36, 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. H. Patterson et al. Informed Prefetching and Caching. In SOSP ’95:Proceedings of the fifteenth ACM symposium on Operating systems principles, 1995. A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. Li, K. Shen et al., Competitive prefetching for concurrent sequential I/O. SIGOPS Oper. Syst.,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. E. Papathanasiou et al., Energy efficient prefetching and caching. In ATEC: USENIX Annual Technical Conference,  2004. USENIX Assoc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DB4E-51C9-4294-9512-641D2A9398A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1700280"/>
            <a:ext cx="8893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4535640"/>
            <a:ext cx="896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19640" y="1432080"/>
            <a:ext cx="1901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39858-4B65-4887-A1F8-74E3FA2682A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ploring the Space, 250microse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39640" y="182088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27A9-5290-466A-9EA8-AC053F6E2F7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ploring the Space, 350microse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39640" y="182088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FC24-927C-4681-9C35-18A7CA56F0C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311040"/>
            <a:ext cx="81820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03200"/>
                <a:tab algn="l" pos="852480"/>
                <a:tab algn="l" pos="1301760"/>
                <a:tab algn="l" pos="1751040"/>
                <a:tab algn="l" pos="2200320"/>
                <a:tab algn="l" pos="2649600"/>
                <a:tab algn="l" pos="3098880"/>
                <a:tab algn="l" pos="3548160"/>
                <a:tab algn="l" pos="3997440"/>
                <a:tab algn="l" pos="4446720"/>
                <a:tab algn="l" pos="4896000"/>
                <a:tab algn="l" pos="5389560"/>
                <a:tab algn="l" pos="5794200"/>
                <a:tab algn="l" pos="6243480"/>
                <a:tab algn="l" pos="6692760"/>
                <a:tab algn="l" pos="7142040"/>
                <a:tab algn="l" pos="7591320"/>
                <a:tab algn="l" pos="8040600"/>
                <a:tab algn="l" pos="8489880"/>
                <a:tab algn="l" pos="8939160"/>
                <a:tab algn="l" pos="8940960"/>
                <a:tab algn="l" pos="9390240"/>
                <a:tab algn="l" pos="983916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lustering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in the context of the networks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32240" y="2003400"/>
            <a:ext cx="304812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41000" y="898200"/>
            <a:ext cx="8558280" cy="45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426"/>
              </a:spcBef>
              <a:spcAft>
                <a:spcPts val="8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Cluste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26"/>
              </a:spcBef>
              <a:spcAft>
                <a:spcPts val="8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y Clustering over the net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26"/>
              </a:spcBef>
              <a:spcAft>
                <a:spcPts val="8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etwork software not fast enou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26"/>
              </a:spcBef>
              <a:spcAft>
                <a:spcPts val="8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ggregates reads and w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26"/>
              </a:spcBef>
              <a:spcAft>
                <a:spcPts val="8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etter use of network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426"/>
              </a:spcBef>
              <a:spcAft>
                <a:spcPts val="8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efetching can benef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C327-F5EF-4695-BF45-042E507B525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Confidence Lev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39640" y="1800360"/>
            <a:ext cx="7740720" cy="41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2B6C-497B-4CDD-B54D-222888FAD336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49200" y="276120"/>
            <a:ext cx="8229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cept of a Network Memory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6760" y="118908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s storage over th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s over Fast Commodity Hardw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lock-based system, can request several blocks at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mulates the commercial environment for streaming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4720" indent="-27612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uch as video-on-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E656-285A-4F3F-8B76-4C2350F87F7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60360" y="1258920"/>
            <a:ext cx="8459640" cy="3600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319640" y="5580000"/>
            <a:ext cx="41400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0360" y="36036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Benefits of Clust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0720" y="5400720"/>
            <a:ext cx="611964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5080" y="5126040"/>
            <a:ext cx="795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3" marL="13716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ime to Fetch p blocks = L + 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32711-FF8B-4A10-9A6D-ADD9754D84F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60360" y="968400"/>
            <a:ext cx="845964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refetching Mechanis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Aft>
                <a:spcPts val="1701"/>
              </a:spcAft>
              <a:buClr>
                <a:srgbClr val="000000"/>
              </a:buClr>
              <a:buFont typeface="Times New Roman"/>
              <a:buChar char="–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tegrated Prefetching and Caching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ei Cao et al., 1995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75000"/>
              </a:lnSpc>
              <a:spcAft>
                <a:spcPts val="4249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static prefetching in which a _x000c_fixed number of blocks were prefetch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75000"/>
              </a:lnSpc>
              <a:spcAft>
                <a:spcPts val="4249"/>
              </a:spcAft>
              <a:buClr>
                <a:srgbClr val="000000"/>
              </a:buClr>
              <a:buFont typeface="Times New Roman"/>
              <a:buChar char="–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formed Prefetching and Caching [R. H. Patterson et al., 1995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Aft>
                <a:spcPts val="4249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efetch Horiz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75000"/>
              </a:lnSpc>
              <a:spcAft>
                <a:spcPts val="4249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isk Centric and parallel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179280"/>
            <a:ext cx="7956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evious Research On Prefetc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85FD-04C7-44C4-A824-499D69DE9F2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168120"/>
            <a:ext cx="81691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Detailed Study of Informed Prefetching and Caching </a:t>
            </a:r>
            <a:r>
              <a:rPr b="0" lang="en-GB" sz="2400" spc="-1" strike="noStrike">
                <a:solidFill>
                  <a:srgbClr val="006633"/>
                </a:solidFill>
                <a:latin typeface="Arial"/>
              </a:rPr>
              <a:t>[R. H. Patterson et al., 1995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7800" y="1260360"/>
            <a:ext cx="833292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xploits access patterns and I/O paralle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1800360"/>
            <a:ext cx="7920000" cy="41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1764-C34A-4E7B-B160-3A98122C5AD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9640" y="360360"/>
            <a:ext cx="774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td ... (Detail study of  Patterson's Work)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0360" y="1739880"/>
            <a:ext cx="815184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efetch Horiz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7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pto 20% to 85%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isk Cen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rallel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7609-0D76-4DF7-B5C5-92A76322C94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9640" y="360360"/>
            <a:ext cx="8856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efetching Over a network: early experience with CTIP [</a:t>
            </a:r>
            <a:r>
              <a:rPr b="1" lang="en-GB" sz="2400" spc="-1" strike="noStrike">
                <a:solidFill>
                  <a:srgbClr val="006633"/>
                </a:solidFill>
                <a:latin typeface="Arial"/>
              </a:rPr>
              <a:t>D. Rochberg et al.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, 1997]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9720" y="1690560"/>
            <a:ext cx="81266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ension of  Patterson's work to a network storage, using N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ed performance improvement by reducing execution time (17% - 62%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sing NFS was the main drawback, no clus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d CPU cost while fetching one block at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0395-44F0-4E54-8E61-20CBC925CC1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ddlesex University</cp:lastModifiedBy>
  <cp:revision>0</cp:revision>
  <dc:subject/>
  <dc:title>Slide 1</dc:title>
</cp:coreProperties>
</file>