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755-0FAB-4FB4-B0B4-72E8BD0B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BF2-6947-4651-A724-E6D5852D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370-A513-463C-8629-17D1E409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2B3-129E-4667-91E4-7F0D3081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203-0E53-48BB-B1E6-12F8538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9B3-C350-4540-AECC-71FB925E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7C8-0C67-4615-A862-3881D1A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3A6-8F1F-42C2-AEB6-355F8B7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88C-4F9C-4EF2-AB40-A41DED84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FD0-E907-44C8-99F6-C1AFE845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7C0-031B-4F64-9EFC-72E3D17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658-259A-402A-A133-7035DE9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0DCA-9D0B-485C-8481-125EB58F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USH-PULLprofile/PROFILE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ush – pull web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4:49:27Z</dcterms:created>
  <dc:creator>ANTHONY13</dc:creator>
  <dc:description/>
  <dc:language>en-US</dc:language>
  <cp:lastModifiedBy>ANTHONY13</cp:lastModifiedBy>
  <dcterms:modified xsi:type="dcterms:W3CDTF">2007-01-03T14:52:20Z</dcterms:modified>
  <cp:revision>2</cp:revision>
  <dc:subject/>
  <dc:title>Slide 1</dc:title>
</cp:coreProperties>
</file>