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77000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E45-1C2C-4331-9492-3F508EE2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550548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2295720"/>
            <a:ext cx="550548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569-8E5E-42FA-A2EC-59FB0EBD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229572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06240" y="229572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B12-6A36-48B0-BB73-A338C1AC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46840" y="110160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08760" y="110160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229572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46840" y="229572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08760" y="2295720"/>
            <a:ext cx="177264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8EA-E9ED-4D9B-977E-285C8831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101600"/>
            <a:ext cx="5505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08B-C9E4-4E4B-967D-6FD304B9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550548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7BB-61E4-47BD-B4C7-73616558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966-1355-4CB3-95C4-DB44E35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422-F974-44D1-B56D-A47E8349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339840"/>
            <a:ext cx="55054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740-B0A2-4E40-9745-B505D11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229572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5B2-F80E-4F2D-8350-427460CE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06240" y="229572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6B7-95C8-4F81-AFE8-5DC883D8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06240" y="1101600"/>
            <a:ext cx="268632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2295720"/>
            <a:ext cx="5505480" cy="10900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B22-C95C-48C8-A6E7-570BFF43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339840"/>
            <a:ext cx="5505480" cy="6350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101600"/>
            <a:ext cx="5505480" cy="22860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 fontScale="84000"/>
          </a:bodyPr>
          <a:p>
            <a:pPr marL="191880" indent="-1918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640080" indent="-12816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895680" indent="-12780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4" marL="1152000" indent="-12780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5" marL="1152000" indent="-12780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6" marL="1152000" indent="-12780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280" y="3470040"/>
            <a:ext cx="1349640" cy="2538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2920" y="3470040"/>
            <a:ext cx="2051280" cy="2538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1840" y="3470040"/>
            <a:ext cx="1349280" cy="2538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D3B7DE5-29ED-4362-883C-5E1D62C5562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35000" y="123840"/>
            <a:ext cx="3948120" cy="2093760"/>
            <a:chOff x="1035000" y="123840"/>
            <a:chExt cx="3948120" cy="2093760"/>
          </a:xfrm>
        </p:grpSpPr>
        <p:sp>
          <p:nvSpPr>
            <p:cNvPr id="42" name=""/>
            <p:cNvSpPr/>
            <p:nvPr/>
          </p:nvSpPr>
          <p:spPr>
            <a:xfrm>
              <a:off x="1079640" y="468360"/>
              <a:ext cx="3813480" cy="1911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fo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9640" y="927720"/>
              <a:ext cx="1121400" cy="6890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gallery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Trans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Worlds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35000" y="1884960"/>
              <a:ext cx="3948120" cy="332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teacher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39560" y="1195560"/>
              <a:ext cx="179280" cy="153000"/>
            </a:xfrm>
            <a:prstGeom prst="leftRightArrow">
              <a:avLst>
                <a:gd name="adj1" fmla="val 50000"/>
                <a:gd name="adj2" fmla="val 2332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11160" y="1195560"/>
              <a:ext cx="179280" cy="153000"/>
            </a:xfrm>
            <a:prstGeom prst="leftRightArrow">
              <a:avLst>
                <a:gd name="adj1" fmla="val 50000"/>
                <a:gd name="adj2" fmla="val 2332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8560" y="1655280"/>
              <a:ext cx="313560" cy="191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74600" y="1655280"/>
              <a:ext cx="313560" cy="191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20280" y="1655280"/>
              <a:ext cx="313560" cy="191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29600" y="123840"/>
              <a:ext cx="403560" cy="306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18200" y="698040"/>
              <a:ext cx="223920" cy="153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19240" y="736200"/>
              <a:ext cx="224280" cy="153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54920" y="698040"/>
              <a:ext cx="223920" cy="153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64200" y="927720"/>
              <a:ext cx="1121400" cy="6890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gallery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Trans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World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16720" y="927720"/>
              <a:ext cx="1121400" cy="6890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" rIns="1008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App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gallery 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Transform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Worlds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55600" y="2525760"/>
            <a:ext cx="5006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5040" bIns="5040" anchor="ctr">
            <a:noAutofit/>
          </a:bodyPr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The site will use a science museum metaphor. The casual visitor will be free to browse th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pplet Galleries at will  and spend as much or as little time at an exhibit as fancy takes th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On the other hand, a teacher may direct a student  to a particular exhibit for a chosen r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Either way, we hope the learning will be entertaining with elements of surprise serendip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ehind the public galleries will be a more formal teacher support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For details,  click the button on 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8:12:20Z</dcterms:created>
  <dc:creator>School of Computing Science</dc:creator>
  <dc:description/>
  <dc:language>en-US</dc:language>
  <cp:lastModifiedBy>School of Computing Science</cp:lastModifiedBy>
  <dcterms:modified xsi:type="dcterms:W3CDTF">2003-09-29T09:08:41Z</dcterms:modified>
  <cp:revision>5</cp:revision>
  <dc:subject/>
  <dc:title>No Slide Title</dc:title>
</cp:coreProperties>
</file>